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DC3-54DA-4D19-ACD0-3E76C17A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121-A127-4A1F-81A4-AA6E9D64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003-22F7-4194-AD8F-F613680E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3C9-3B29-4917-B3C0-5032BB78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71C-5DE5-4650-90A2-FAD148DA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956-187D-43FA-8990-6BCF474D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E10-367F-4211-92AB-DF3C62CD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114-2B85-4178-B6A8-DF96AE61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779-8E81-4EC6-A34D-FEEDCA61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2DE-CCC6-43E7-99BE-AFF4BCFB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1B9-3D00-4B67-8978-E12B3DA2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E37-1E4D-4239-AD38-9E455196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231B-9C32-4628-9387-EFBAD3995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4495680"/>
            <a:ext cx="571320" cy="5079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4089240"/>
            <a:ext cx="571320" cy="4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2000" y="2666880"/>
            <a:ext cx="2971800" cy="23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870280"/>
            <a:ext cx="16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CARTE DE GROUPE (Recev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6480" y="27687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Mentions biologiques 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3276720"/>
            <a:ext cx="21718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33880" y="2666880"/>
            <a:ext cx="0" cy="60984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768760"/>
            <a:ext cx="399960" cy="5079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3378240"/>
            <a:ext cx="1828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6600"/>
                </a:solidFill>
                <a:latin typeface="Times New Roman"/>
              </a:rPr>
              <a:t>PREMIERE DETERMINATION Nom et Adresse Laborato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aboratoire d’Analyses de Biologie Médicale VERDIER J.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 Rue Saint Laurent – 75005 PAR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2000" y="4089240"/>
            <a:ext cx="2971800" cy="91440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2000" y="4597560"/>
            <a:ext cx="80028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2280" y="4089240"/>
            <a:ext cx="0" cy="91440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089240"/>
            <a:ext cx="0" cy="5083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911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Chef de Laboratoi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40892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996600"/>
                </a:solidFill>
                <a:latin typeface="Times New Roman"/>
              </a:rPr>
              <a:t>N° date examen </a:t>
            </a: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E1361               06-02-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597560"/>
            <a:ext cx="914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rélèvement effectué le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6.02.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ar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ARTH 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62280" y="4394160"/>
            <a:ext cx="120024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96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0520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91080" y="480060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91080" y="46990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91080" y="459756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91080" y="44956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33480" y="4394160"/>
            <a:ext cx="39996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91080" y="429264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3840" y="4089240"/>
            <a:ext cx="28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920" y="4210200"/>
            <a:ext cx="30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089240"/>
            <a:ext cx="2412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Nég -       -      +      -      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07844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AB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089240"/>
            <a:ext cx="609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R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36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0500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94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2280" y="4383000"/>
            <a:ext cx="62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NOM Prénom        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RAPED Lydia            </a:t>
            </a: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Date Lieu de Naissance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 20.02.57 Pétro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87720"/>
            <a:ext cx="571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 Rh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  NEGATIF</a:t>
            </a:r>
            <a:r>
              <a:rPr b="1" lang="fr-FR" sz="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49568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L   NEGATI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14880" y="4724280"/>
            <a:ext cx="5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.A.I. : Nég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724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724280"/>
            <a:ext cx="0" cy="279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17Z</dcterms:created>
  <dc:creator>Noël BELTRAMIN</dc:creator>
  <dc:description/>
  <dc:language>en-US</dc:language>
  <cp:lastModifiedBy>austin powers</cp:lastModifiedBy>
  <dcterms:modified xsi:type="dcterms:W3CDTF">2002-05-27T21:57:14Z</dcterms:modified>
  <cp:revision>6</cp:revision>
  <dc:subject/>
  <dc:title>Présentation PowerPoint</dc:title>
</cp:coreProperties>
</file>